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3F3-DE41-43D0-8795-3C95080AB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A41-B9FF-4193-B5F8-BF2467FB0EF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C3A2-CE3D-4495-81CD-C650D574096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0D28-DD2B-45BA-A8BD-D1D07CA40F3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A3F0-957A-44D5-B838-A58FB6A27C1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373B-B6AC-4F26-9B88-E243583485B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968-60AA-4795-AEFA-1EA6AE0F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9B1-6279-45BA-B970-EB273B20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51D-1269-49A2-8AE8-718F51DB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B2B-75E6-4EB5-9EAB-6C5AFDBC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B7AA-E0FC-4709-A32D-86E78A6C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D6D8-3479-47F9-B0FD-3B86996C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0CF6-3657-42A7-B3F7-F353378F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D562-2EF6-4DC8-972E-1B422A2A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0AC1-751A-4C39-A359-463E6C28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73D4-3F6E-49A6-A8A3-9911B341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B8FE-C0E9-4963-BE39-5166CF25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DD0-511F-4B7F-A9EC-8D47E163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3CEA-0E04-4C41-BFEE-F68F30E2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50DE-239B-44D7-9AA2-1EA2609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8386-DBB8-4ADE-96F4-9DAF651F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020F-DFF5-4D79-8838-6A676FBC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8DD5-DD87-48FF-B7D9-8B8E6DB1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178-40A4-4E3F-8EDB-6DB07CF1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899-2B12-4623-BECC-9B193E4F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982-B9D3-4E8B-AEBA-401681C6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784-C598-4479-ACCB-15D08275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CF5-C49D-4284-833D-CC8730D1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A02-5595-4006-9199-7F197E2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F83-AA2D-4AA7-830F-20645B3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0C83-09EB-4B6F-80B1-CCA446D1D1F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3F0F-C4AC-4806-BD89-27E8E7454EE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hapter 23 – Landscape Ecology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cotone 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ending of two different ecosyst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es and grasses meeting and overlapp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y the draw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3"/>
          <a:stretch/>
        </p:blipFill>
        <p:spPr>
          <a:xfrm>
            <a:off x="380880" y="3909960"/>
            <a:ext cx="40388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3049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d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two different landscapes mee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eld bordering a for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caused by soil differences, fire, grazing, farming,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5029200" y="3724200"/>
            <a:ext cx="4114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dscape Mosa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tc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cot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ge eff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rid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4c3aa"/>
                </a:solidFill>
                <a:uFillTx/>
                <a:latin typeface="Arial"/>
              </a:rPr>
              <a:t>Edge Effec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1063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pically more biodiversity around edges because of varied plant commun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 Ruffed Grou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ds a variety of plan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ver for it’s food, nest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courting behavi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410080" y="3675240"/>
            <a:ext cx="3733920" cy="3182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80880" y="4470480"/>
            <a:ext cx="28958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43520" indent="-3330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Landscape mosaic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quilt-work of different habita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43520" indent="-3330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atc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tinct commun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up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a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419720" cy="3127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0" y="1752480"/>
            <a:ext cx="3886200" cy="2509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3"/>
          <a:stretch/>
        </p:blipFill>
        <p:spPr>
          <a:xfrm>
            <a:off x="4800600" y="3490920"/>
            <a:ext cx="43434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Verdana"/>
              </a:rPr>
              <a:t>Corrido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ips of vegetation that connect one patch with an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ction as travel lanes for organis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created by hum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7560" indent="-411120">
              <a:spcBef>
                <a:spcPts val="7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47560" indent="-411120">
              <a:spcBef>
                <a:spcPts val="7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48320" y="1600200"/>
            <a:ext cx="403848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4915080" y="0"/>
            <a:ext cx="4228920" cy="3171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2"/>
          <a:stretch/>
        </p:blipFill>
        <p:spPr>
          <a:xfrm>
            <a:off x="5334120" y="2563920"/>
            <a:ext cx="38098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2:24:42Z</dcterms:created>
  <dc:creator>SASD</dc:creator>
  <dc:description/>
  <dc:language>en-US</dc:language>
  <cp:lastModifiedBy>SASD</cp:lastModifiedBy>
  <dcterms:modified xsi:type="dcterms:W3CDTF">2011-11-17T12:25:02Z</dcterms:modified>
  <cp:revision>1</cp:revision>
  <dc:subject/>
  <dc:title>Chapter 23 – Landscape Ecology</dc:title>
</cp:coreProperties>
</file>